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13.gif" ContentType="image/gif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8215-71FD-4C68-80E4-A1B409B3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2FE05-956D-4F57-89B4-3D49579D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28CC4-75FA-45BE-B78A-64BC2F0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EBCA-A7C5-4127-A5F0-72BDC810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0EDB0-B30F-4621-B428-F6DF9D5A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615C6-14E3-4A62-AA2B-02ED15AC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2024F-0174-4EA5-A5E1-7EC62A8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2FAF8-DD39-4E28-9C9F-02A7DB5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F63F4-8195-45B5-AE9A-F743DD8E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9A3D0-C014-4D8E-BE81-BEA951F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2D5CB-0158-4107-B412-D361FB98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3B2EE-AE21-47C2-AD6A-615AD8DA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17080" y="6381720"/>
            <a:ext cx="649080" cy="3682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3266-B423-463A-8677-4284947F93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728-DA28-42D1-8CC3-30AFCC66515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Ένα ταξίδι στο μεγάκοσμο του χωροχρόν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Πάνος Μουρούζη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Φυσικός Ρ/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Υπεύθυνος Ε.Κ.Φ.Ε Κέρκυρα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Η απόσταση των γαλαξιών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Απόσταση από την Ανδρομέδα 2,5 εκ έτη φωτό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Άρα η πυκνότητα των γαλαξιών είναι πολύ μεγάλη σε σχέση με την πυκνότητα των αστέρων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40323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158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ff"/>
                </a:solidFill>
                <a:latin typeface="Arial"/>
              </a:rPr>
              <a:t>Σμήνη – υπερσμήνη γαλαξι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Οι γαλαξίες οργανώνονται σε τοπικά σμήνη και τα σμήνη σε υπερσμήνη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Τελικά η σημερινή δομή του σύμπαντος είναι σαν ένα τεράστιο σφουγγάρι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4149720"/>
            <a:ext cx="32414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5824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Πως δημιουργήθηκαν οι γαλαξίε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2565000"/>
            <a:ext cx="76611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292929"/>
                </a:solidFill>
                <a:latin typeface="Arial"/>
              </a:rPr>
              <a:t>Μυστήριο Νο 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Σε ένα επίπεδο ομογενές και ισότροπο σύμπαν γεννήθηκαν κάποτε οι γαλαξίες.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Η θεωρία του πληθωρισμού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Η θεωρία των πολλαπλών συμπάντω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Η ηλικία και οι διαστάσεις του σύμπαν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2276640"/>
            <a:ext cx="7661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Η ηλικία του υπολογίζεται στα 12,7 δις έτη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Οι διαστάσεις σε 150 δις έτη φωτό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2808360" cy="2108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4221000"/>
            <a:ext cx="295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Η διαστολή του σύμπαν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292929"/>
                </a:solidFill>
                <a:latin typeface="Arial"/>
              </a:rPr>
              <a:t>Μυστήριο Νο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Το σύμπαν διαστέλλεται επιταχυνόμενο!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Η σκοτεινή ενέργεια είναι γύρω μας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624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28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Η ταχύτητα του φωτός φράγμα ή διέξοδος για διαπλανητικά συστήματ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46800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Ένα ταξίδι στον γαλαξία της Ανδρομέδας μπορεί να διαρκέσει 7 χρόνια. 3 χρόνια με επιτάχυνση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και 4 με σταθερή ταχύτητα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38689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Τα ταξίδια στο μέλλο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Αποτελούν ένα επιστημονικά τεκμηριωμένο γεγονός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3141720"/>
            <a:ext cx="61927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1700280"/>
            <a:ext cx="720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6551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Μια επιστροφή στη Γ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2852640"/>
            <a:ext cx="4175280" cy="334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Αρχείο:Pangaea el.png"/>
          <p:cNvPicPr/>
          <p:nvPr/>
        </p:nvPicPr>
        <p:blipFill>
          <a:blip r:embed="rId2"/>
          <a:stretch/>
        </p:blipFill>
        <p:spPr>
          <a:xfrm>
            <a:off x="826920" y="2852640"/>
            <a:ext cx="3006720" cy="3313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70028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92929"/>
                </a:solidFill>
                <a:latin typeface="Arial"/>
              </a:rPr>
              <a:t>Πριν 200 εκατομμύρια χρόνια οι ήπειροι ήταν ενωμένες ( ΠΑΓΓΑΙΑ )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92929"/>
                </a:solidFill>
                <a:latin typeface="Arial"/>
              </a:rPr>
              <a:t>Άλφρεντ Βέγκενερ 1968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Η ιστορία της γ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353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1582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Arial"/>
              </a:rPr>
              <a:t>Ένα μεγάλο μυστήριο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Νο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Η εμφάνιση της ζωής στον πλανήτη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Ένα φαινόμενο που συνέβη άπαξ κάτω από άγνωστες συνθήκε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32414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01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Ένα ταξίδι που θα μας βοηθήσει να ανακαλύψουμ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615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Τι γνωρίζουμε για το σύμπαν.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Αλλά ίσως πιο ενδιαφέρον είναι τι </a:t>
            </a:r>
            <a:r>
              <a:rPr b="1" lang="el-GR" sz="3200" spc="-1" strike="noStrike">
                <a:solidFill>
                  <a:srgbClr val="292929"/>
                </a:solidFill>
                <a:latin typeface="Arial"/>
              </a:rPr>
              <a:t>δε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 γνωρίζουμε γι’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αυτό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42483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Arial"/>
              </a:rPr>
              <a:t>Πείραμα Miller-Ure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(195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11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Ένα πείραμα που απαντά σε ορισμένα ερωτήματα αλλά προκαλεί αλλά τόσ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" descr="Αρχείο:Miller-Urey experiment-en.svg"/>
          <p:cNvPicPr/>
          <p:nvPr/>
        </p:nvPicPr>
        <p:blipFill>
          <a:blip r:embed="rId1"/>
          <a:stretch/>
        </p:blipFill>
        <p:spPr>
          <a:xfrm>
            <a:off x="4032360" y="1773360"/>
            <a:ext cx="5111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Η πολυπλοκότητα στην πράξη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Arial"/>
              </a:rPr>
              <a:t>Μυστήριο </a:t>
            </a:r>
            <a:r>
              <a:rPr b="1" lang="el-GR" sz="4000" spc="-1" strike="noStrike">
                <a:solidFill>
                  <a:srgbClr val="292929"/>
                </a:solidFill>
                <a:latin typeface="Arial"/>
              </a:rPr>
              <a:t>Νο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661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Το σπάσιμο της συμμετρίας του χωροχρόνου κατά τη διάρκεια ανάπτυξης των πολυκύτταρων οργανισμώ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116080" cy="2997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2448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Το φαινόμενο της εξέλιξη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39099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Η πολυπλοκότητα και η προσαρμοστικότητα στην πορεία του χρόνου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58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Μία αιρετική άποψη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7272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Πόσος χρόνος και χώρος απαιτείται για να δημιουργηθεί ένας άνθρωπος με τον τρόπο που έχει δημιουργηθεί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Τελικά υπάρχει σπατάλη χώρου και χρόνου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Μήπως η μοναδικότητα της δημιουργίας αλλά και της Γης αυξάνει τις υποχρεώσεις μας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28083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Arial"/>
              </a:rPr>
              <a:t>Ένα ακόμη μεγαλύτερο μυστήριο </a:t>
            </a:r>
            <a:r>
              <a:rPr b="1" lang="el-GR" sz="4000" spc="-1" strike="noStrike">
                <a:solidFill>
                  <a:srgbClr val="292929"/>
                </a:solidFill>
                <a:latin typeface="Arial"/>
              </a:rPr>
              <a:t>το Νο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Η εμφάνιση της ελόγου ζωής οφείλεται κυρίως στην εξέλιξη της γλώσσα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Γιατί δημιουργήθηκε ή επικράτησε μόνο ένα είδος ανθρωποειδών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8382" r="4318" b="33547"/>
          <a:stretch/>
        </p:blipFill>
        <p:spPr>
          <a:xfrm>
            <a:off x="684360" y="4005360"/>
            <a:ext cx="8135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Arial"/>
              </a:rPr>
              <a:t>Οι 10 μεγάλοι σταθμοί τ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l-GR" sz="4000" spc="-1" strike="noStrike">
                <a:solidFill>
                  <a:srgbClr val="0000ff"/>
                </a:solidFill>
                <a:latin typeface="Arial"/>
              </a:rPr>
              <a:t>υ ανθρώπινου πολιτισμο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120" y="224928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ανακάλυψη της φωτιά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ανακάλυψη του τροχού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ανάπτυξη της γεωργία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δημιουργία του γραπτού λόγο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ανάπτυξη των τεχνών ( ποίηση, μουσική κλπ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ανάπτυξη της μεταλλουργία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εφεύρεση της τυπογραφία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εφεύρεση των μηχανώ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εφεύρεση του ηλεκτρισμού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Η ανάπτυξη των ασύρματων επικοινωνιώ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58323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Και κάποιοι ακόμη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Φακοί ( μικροσκόπιο – τηλεσκόπιο 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Ανακάλυψη της πυρίτιδας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Ανακάλυψη της ατομικής ενέργεια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Ανακάλυψη του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Κατασκευή Η/Υ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4869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Μετά από 12,7 δισ έτη από μία μεγάλη έκρηξη, στις παρυφές ενός ασήμαντου γαλαξία, κοντά σε έναν ασήμαντο ήλιο, στον 3</a:t>
            </a:r>
            <a:r>
              <a:rPr b="0" lang="en-US" sz="3600" spc="-1" strike="noStrike" baseline="30000">
                <a:solidFill>
                  <a:srgbClr val="292929"/>
                </a:solidFill>
                <a:latin typeface="Arial"/>
              </a:rPr>
              <a:t>ο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 κατά σειρά πλανήτη αυτού του ήλιου δημιουργήθηκαν όλα τα παρακάτω.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692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Ο πλανήτης Γη .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Kép 1" descr="1214794329iewKn2p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Οι διαστάσεις του ηλιακού μας συστή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4537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ΔΙΑΜΕΤΡΟΣ ΗΛΙΟΥ 0,0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0,39  Ερμής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0,72  Αφροδίτη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292929"/>
                </a:solidFill>
                <a:latin typeface="Arial"/>
              </a:rPr>
              <a:t>1,00  Γη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1,52  Άρης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2,77  Αστεροειδείς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5,20  Δίας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9,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0  Κρόνος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9,2  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Ουρανός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30,0  Ποσειδώνας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&gt;40     Ζώνη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Kuip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50.000-100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0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00  Σφαιρικό νέφος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o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29"/>
                </a:solidFill>
                <a:latin typeface="Arial"/>
              </a:rPr>
              <a:t>Εγγύς του Κενταύρου 268.00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95640" y="2133720"/>
            <a:ext cx="4824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Kép 1" descr="25X3sHJULrn4Ql8t5m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31680" y="0"/>
            <a:ext cx="931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Kép 1" descr="1216500826yWKZX8y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317520" y="-357120"/>
            <a:ext cx="9779040" cy="75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Kép 1" descr="1215183399L7kBlfr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1592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Kép 1" descr="1220623596S9jXtwx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Kép 1" descr="1239243500BetviI1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Kép 1" descr="1224886662YM5aZ1t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93680" y="0"/>
            <a:ext cx="9337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Kép 1" descr="1228222940SYf234U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98360" y="0"/>
            <a:ext cx="934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Kép 1" descr="1232279825vrznyUh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Kép 1" descr="1227183846MDEJ3PF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Kép 1" descr="12288883483aSPa8T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4428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Οι διαστάσεις μέσα από μια αντιστοιχί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2850840"/>
            <a:ext cx="76611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Αν ο ήλιος μας είναι ένα κεράσι στο κέντρο του γηπέδου Καραϊσκάκη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η γη θα είναι ένας κόκκος άμμου σε απόσταση ενός μέτρου, ο Πλούτωνας θα βρίσκεται στο ένα τέρμα του γηπέδου και το κοντινότερο κεράσι, ( ο εγγύς του Κενταύρου), θα βρίσκεται στη Κέρκυρα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Kép 1" descr="RACPsunEEmNi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33280"/>
            <a:ext cx="9144000" cy="80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Kép 1" descr="1255151674KSPMluM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25280" y="0"/>
            <a:ext cx="926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Kép 1" descr="dwARP63sGUn8DDQvnK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Kép 1" descr="hmGWKuHevNmXzqSmR5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Kép 1" descr="M7TlGc6gyqL3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Kép 1" descr="pHa9nkfzQSJQ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1592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Kép 1" descr="1235578073yFC8TUt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Kép 1" descr="zCmYtjD8JNSeuuH8x3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162000" y="0"/>
            <a:ext cx="930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Kép 1" descr="9VpA6muHYbRwvRvY8T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Ένα τεχνολογικό θαύμα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ημιουργία συσκευής με βάρος και όγκο όσο μία σταγόνα νερό με τις εξής δυνατότητες.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υνατότητα πτήση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υνατότητα ανίχνευσης εμποδίων, μεταβολών θερμοκρασίας, διοξειδίου του άνθρακα, ανίχνευσης παρόμοιων συσκευών και προσαρμογή στις νέες συνθήκες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υνατότητα αυτοτροφοδότησης καθώς και δημιουργίας των απαραίτητων υλικών για αυτοεπιδιόρθωση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92929"/>
                </a:solidFill>
                <a:latin typeface="Arial"/>
              </a:rPr>
              <a:t>Δυνατότητα αναπαραγωγής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59640" y="5373720"/>
            <a:ext cx="1657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Η σταθερότητα του ηλιακού μας συστή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26920" y="1989000"/>
            <a:ext cx="766152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92929"/>
                </a:solidFill>
                <a:latin typeface="Arial"/>
              </a:rPr>
              <a:t>Μυστήριο Νο 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Οι νόμοι του Νεύτωνα ή του Κέπλερ δεν ισχύουν για το ηλιακό μας σύστημα. Σύστημα πολλών σωμάτων </a:t>
            </a:r>
            <a:r>
              <a:rPr b="0" lang="el-GR" sz="2400" spc="-1" strike="noStrike">
                <a:solidFill>
                  <a:srgbClr val="292929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 θεωρία του χάους (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</a:rPr>
              <a:t>Henri Poincaré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</a:rPr>
              <a:t>  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Η θεωρία διαταραχών μάς επιτρέπει να κάνουμε προβλέψεις σε μικρά παράθυρα του χρόνου και του χώρο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92929"/>
                </a:solidFill>
                <a:latin typeface="Arial"/>
              </a:rPr>
              <a:t>Δεν ξέρουμε το παρελθόν του ηλιακού μας συστήματος, αλλά ούτε μπορούμε να προβλέψουμε το μέλλον το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1680" y="404280"/>
            <a:ext cx="8211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Το τελικό συμπέρασμα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2565000"/>
            <a:ext cx="48466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Εν οίδα ότι ουδέν οίδα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329200" cy="3500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651640" y="5157720"/>
            <a:ext cx="3311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ΣΩΚΡΑΤΗΣ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Σας ευχαριστώ πολ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Για την παρουσία σας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Και την προσοχή σα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726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Το πρόβλημα των 3 σωμά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ShockwaveFlash1"/>
          <p:cNvGraphicFramePr/>
          <p:nvPr/>
        </p:nvGraphicFramePr>
        <p:xfrm>
          <a:off x="900000" y="1844640"/>
          <a:ext cx="72723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272360" cy="4680000"/>
                  </a:xfrm>
                  <a:prstGeom prst="rect">
                    <a:avLst/>
                  </a:prstGeom>
                  <a:ln w="9360">
                    <a:solidFill>
                      <a:srgbClr val="29292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888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Η θεωρία του χάους δίπλα μ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5837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Το διπλό εκκρεμές είναι ένα χαοτικό σύστημα. Δηλαδή ένα σύστημα  στο οποίο δεν μπορούμε να κάνουμε ασφαλείς προγνώσεις και που επηρεάζεται πολύ από τις αρχικές συνθήκες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3367080"/>
            <a:ext cx="7129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311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Οι διαστάσεις του Γαλαξία μ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7058160" cy="4235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5400000">
            <a:off x="6663960" y="3857400"/>
            <a:ext cx="136512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000 ε.φ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5445000"/>
            <a:ext cx="561672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.000 έτη φωτός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Η Σταθερότητα των γαλαξι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2133720"/>
            <a:ext cx="766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292929"/>
                </a:solidFill>
                <a:latin typeface="Arial"/>
              </a:rPr>
              <a:t>Μυστήριο Νο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Η κίνηση των αστέρων του γαλαξία μας δεν μπορεί να εξηγηθεί από την παρατηρούμενη μάζα του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Δεν εξηγείται ούτε και με τροποποίηση των νόμων της μηχανικής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92929"/>
                </a:solidFill>
                <a:latin typeface="Arial"/>
              </a:rPr>
              <a:t>Άρα θα πρέπει να υπάρχει μια σκοτεινή μάζα άγνωστης προέλευσης.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9:31:14Z</dcterms:created>
  <dc:creator>user</dc:creator>
  <dc:description/>
  <dc:language>en-US</dc:language>
  <cp:lastModifiedBy>user</cp:lastModifiedBy>
  <dcterms:modified xsi:type="dcterms:W3CDTF">2011-05-11T07:53:34Z</dcterms:modified>
  <cp:revision>33</cp:revision>
  <dc:subject/>
  <dc:title>Ένα ταξίδι στο μεγάκοσμο του χωροχρόνου</dc:title>
</cp:coreProperties>
</file>