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33F-995B-4F1B-B26E-B8059851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E45A-99CF-4C38-B4C2-C680354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E6FD-561B-43F1-83EB-F163532A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21E-5864-4746-9394-10BD69D9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A9E-C03B-4BCC-B1E7-5A4A8DBC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26D7-74E8-4CE4-A34F-BA32971F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198-ABC6-4BC3-B31D-406263B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57AF-92B1-467C-B8D9-9CEC1AA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CCF-5E44-48CC-B4B9-11181C78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F1A-014C-4E2B-B762-DCF996E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57C-035B-483F-B687-452B29EC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600-63F5-432D-8889-7F4C0068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0EB-5D12-4468-B006-AF4A53DA3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3280" y="189000"/>
            <a:ext cx="867564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79280" y="263520"/>
            <a:ext cx="8675640" cy="6478560"/>
            <a:chOff x="179280" y="263520"/>
            <a:chExt cx="8675640" cy="64785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179280" y="263520"/>
              <a:ext cx="8675640" cy="64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429280" y="170352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(κουάρκ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14000" y="2365560"/>
              <a:ext cx="104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(φορτισμένα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80200" y="3013200"/>
              <a:ext cx="142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(κουάρκ, λεπτόνια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00720" y="3589200"/>
              <a:ext cx="51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00"/>
                  </a:solidFill>
                  <a:latin typeface="Times New Roman"/>
                </a:rPr>
                <a:t>(όλα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6516720" y="16286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2276640"/>
            <a:ext cx="142920" cy="142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4T21:52:13Z</dcterms:created>
  <dc:creator>n.d. tracas</dc:creator>
  <dc:description/>
  <dc:language>en-US</dc:language>
  <cp:lastModifiedBy>NIKOLAS</cp:lastModifiedBy>
  <dcterms:modified xsi:type="dcterms:W3CDTF">2011-03-02T16:05:26Z</dcterms:modified>
  <cp:revision>15</cp:revision>
  <dc:subject/>
  <dc:title>No Slide Title</dc:title>
</cp:coreProperties>
</file>