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A6C-A837-4C2B-904B-6645D8D1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605-D9BF-4843-9139-F2978150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B493-DBC4-498A-9B05-69571A6C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1D7-E2A8-4238-ADF5-95C65944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0D0-A990-46D5-8793-67E0E666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C786-C9A0-4C84-B102-EEB01D06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462D-D414-4FED-8D04-DD1DB963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90E-D6BA-457E-AE63-738B3AF4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47C-9832-4909-BD9F-F2EEF165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821-79DC-45C1-AADD-16F3395A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E3C-16AD-400C-BA4F-C83E1648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F92-F92F-4B7E-96FB-3A6C394D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B0F1-5090-45D7-8777-A43FF91DC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lpart01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838080" y="838080"/>
            <a:ext cx="7772400" cy="5272200"/>
            <a:chOff x="838080" y="838080"/>
            <a:chExt cx="7772400" cy="5272200"/>
          </a:xfrm>
        </p:grpSpPr>
        <p:pic>
          <p:nvPicPr>
            <p:cNvPr id="43" name="elpart02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117320" y="213372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cc00"/>
                  </a:solidFill>
                  <a:latin typeface="Arial"/>
                </a:rPr>
                <a:t>ΗΛΕΚΤΡΟΝΙ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838080" y="838080"/>
            <a:ext cx="7772400" cy="5272200"/>
            <a:chOff x="838080" y="838080"/>
            <a:chExt cx="7772400" cy="5272200"/>
          </a:xfrm>
        </p:grpSpPr>
        <p:pic>
          <p:nvPicPr>
            <p:cNvPr id="46" name="elpart03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101480" y="2192400"/>
              <a:ext cx="101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000" spc="-1" strike="noStrike">
                  <a:solidFill>
                    <a:srgbClr val="ffcc00"/>
                  </a:solidFill>
                  <a:latin typeface="Arial"/>
                </a:rPr>
                <a:t>ΗΛΕΚΤΡΟΝΙΟ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838080" y="838080"/>
            <a:ext cx="7772400" cy="5270760"/>
            <a:chOff x="838080" y="838080"/>
            <a:chExt cx="7772400" cy="5270760"/>
          </a:xfrm>
        </p:grpSpPr>
        <p:pic>
          <p:nvPicPr>
            <p:cNvPr id="49" name="elpart1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7772400" cy="527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"/>
            <p:cNvGrpSpPr/>
            <p:nvPr/>
          </p:nvGrpSpPr>
          <p:grpSpPr>
            <a:xfrm>
              <a:off x="4041000" y="1963800"/>
              <a:ext cx="3982680" cy="416160"/>
              <a:chOff x="4041000" y="1963800"/>
              <a:chExt cx="3982680" cy="416160"/>
            </a:xfrm>
          </p:grpSpPr>
          <p:sp>
            <p:nvSpPr>
              <p:cNvPr id="51" name=""/>
              <p:cNvSpPr/>
              <p:nvPr/>
            </p:nvSpPr>
            <p:spPr>
              <a:xfrm>
                <a:off x="4041000" y="2133720"/>
                <a:ext cx="1017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000" spc="-1" strike="noStrike">
                    <a:solidFill>
                      <a:srgbClr val="ffcc00"/>
                    </a:solidFill>
                    <a:latin typeface="Arial"/>
                  </a:rPr>
                  <a:t>ΗΛΕΚΤΡΟΝΙΟ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301880" y="1963800"/>
                <a:ext cx="721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ffcc00"/>
                    </a:solidFill>
                    <a:latin typeface="Arial"/>
                  </a:rPr>
                  <a:t>ΚΟΥΑΡΚ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lpart2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elpart3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part4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lpart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772400" cy="52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4T21:45:25Z</dcterms:created>
  <dc:creator>n.d. tracas</dc:creator>
  <dc:description/>
  <dc:language>en-US</dc:language>
  <cp:lastModifiedBy>n.d. tracas</cp:lastModifiedBy>
  <dcterms:modified xsi:type="dcterms:W3CDTF">1999-12-05T21:16:54Z</dcterms:modified>
  <cp:revision>4</cp:revision>
  <dc:subject/>
  <dc:title>No Slide Title</dc:title>
</cp:coreProperties>
</file>